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5B2-AC67-44D9-A7F9-81D4EE38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A99-2D5F-457E-B2FC-5BFEC356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6A494-F0C3-4265-98DE-0E489A0C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9BC60-E5CC-4FC4-A1D4-729C03CF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BC33F-7335-4D5E-9DA8-F2B15CCD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8FE53-87A0-4A7C-B504-7861A79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F7A74-986F-4376-9F64-5264F0E1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7EBE2-4733-47E7-8E42-57D2223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C672A-6901-4059-B180-3E5312ED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CBC1E-77B4-4FDF-A0F5-DE55FC78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3F153-02FF-4F1C-BDA8-FEF54916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B79D1-6039-461A-8C97-D00DEA1C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12C-BC71-403F-95A3-78DF0757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E0EE6-8B57-4215-9C0C-736FBF38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65270-59D3-4223-9DC0-761ECDBD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93C8A-ECCF-4681-B696-11B0E0B5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9911D-0749-4B31-8A4A-BC0DC143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6683E-7A7E-4D83-B903-92BC4D12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D74B2-F85D-4033-87F4-F61BB54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F3748-9516-477B-830D-9EA013F0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F9614-1EEB-4297-8319-A64FEDE2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BFE50-CDC7-42D3-8D0A-78DE9AFE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E4BC0-F8A0-47B7-9EF6-95370483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FF5-6863-4B72-91B6-6424CE5B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2458D-3EBF-4FF7-A279-272F2A05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0E7F3-A226-4A38-A83D-8CD9C521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FB31B-D204-4B10-B4A9-CDD7C9E9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4AC32-C230-404C-9588-B4378070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B72EA-C077-4876-9549-3B081D6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E1C35-EE3A-454C-A920-2108AB74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5BE5B-05CA-4A28-8DAE-C8657672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A7ED6-7B86-4F03-B601-C89CD76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2603F-C86B-482C-ABCE-54DB181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9C452-82A5-455A-A37D-E32325D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046D-B777-43DC-8738-00FA5F35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92009-E3D1-4382-91F3-AA788630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42D10-8D12-4B2B-A646-64B7DBA5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58AD0-3A39-4921-ABE7-CD3AA4E3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F57AC-B296-42F1-8BF6-33FDE0B4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A5E60-8C9B-4C91-8D37-EB2FD3BC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DE2F5-E1BB-4CEE-A933-F31A4E3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66BB6-27F1-44B8-9BBE-488F3E7D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A74BC-8F30-46D1-9C89-DA01FFD2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4BAA5-02C8-4232-8955-8FF35FAB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BFB27-414C-433E-A567-A796FD27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E096-7D99-4BB2-A3BF-2369BCF1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4BBB8-0AD6-48B7-8891-AC04EC72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12796-9B2B-4BD0-90B7-BF42F738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20DF1-6A8F-44E1-BB74-32F8590B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83704-FFC5-45F1-A663-CBEC06E5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B47FA-8113-433F-9F1D-5C591C81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2283D-7FEC-4608-AEA3-1C12CCF2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0A5B1-1CCB-4DE1-9D2B-42C1CBE2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85C5D-20EC-47F5-922A-475EABA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37B84-7B6E-4B56-945F-5F0B83D0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30D8F-0EAB-45BB-85D6-D4E2E171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4B90-891D-4AA9-B068-AF8E7E59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D0592-1CCD-40B4-BCC3-7559CFB4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8C5D4-EFE5-459D-A646-F5C21183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F8784-7178-41B3-823D-00FF64D9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A56F6-8F59-449D-BFCE-CC1F8ED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501CD-71FB-4665-BE71-8D5A0A3D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94508-84F3-43A0-8398-86C0BD8B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C0539-29CE-4A09-AD17-E16E3A7C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461AC-842D-47C2-AB9C-5D3848BA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700F7-6097-4ECC-B8DF-11AD2869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B9629-7919-44EA-AC78-1E2CA79D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7379-1B97-4BE9-9401-5A3075C3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BFF99-1CFC-4A19-8B56-12DADEBF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32B3B-0DB2-471A-BA5F-918E1E3B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AB798-EBDE-4661-B974-9BF4C5B0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DB8D9-6811-4D3C-9CC0-849A8B5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62956-2A62-42EC-A5ED-875B830A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0085B-FEB2-466A-9356-BD21417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94C29-5A82-4BB2-A406-65129E48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6EEAB-39EC-4E5F-8696-05A05268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20EA6-20FD-4E09-9E04-8E677FAF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8DAFC-E3E5-4926-B60A-206B1ED2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C778-121B-4DD9-AEDD-453A48AB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A3370-70CE-4CF3-B809-D567C1C8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D9D3F-1D9A-4756-9208-D7AB6065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3E223-3350-41BF-9972-D6E9A01B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7FCF6-1D68-4D0F-9CCD-0760961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3DA21-CECB-42F0-8E4D-D64E199B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3DED0-B29F-4421-8F0A-B8D142A1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E977E-8740-4F6B-8685-AED29A06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48AF4-8003-4F15-B318-1F99A49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68784-FD4E-4616-BB1E-12964F43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7FDCF-FC51-4114-AA3D-9B925967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2B25-C24E-485E-A3E8-C9DA8F4E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01A50-0CD1-4085-81EF-8C1DAB99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C5034-1D90-4A05-8F10-C7CDA5BE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D6772-1B09-49B1-8BE8-2C041CE7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3AEC95-F1B6-45C0-B04B-D58D1A18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112CB-623D-4559-A909-316CFB83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3E010-35DA-4828-A732-768E1ACF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AD83B-EFD2-4CD6-A589-007AAB4C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E21D8A-6DBD-4D78-B7EE-EEFA2BC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AB88C-FC4C-4ED9-AA1F-4508DBF0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92906-87F3-4A0D-95FD-EA1E5049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BEB3-C2B9-4029-B434-B97B9DD8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53ECD-5538-44B2-9CBB-2A719BD9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C7CE7-F580-4B74-BB30-8B349D42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D78F0-DAFC-4815-8EFD-370935D3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212D5B-E69E-46E9-B311-D72BCC53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94FD8-0A30-48F3-A08B-DE8E0B3E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BF22C-1CDC-46B4-B9AA-7E34EE03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2DFCB-D125-4524-8D60-5A19F97C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7B012-618D-43D2-AB56-E8958C61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F56DD-F6ED-475E-B854-85783C6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D506E-6D67-44AE-B2CA-8C5629D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966-FBBE-4669-B891-6FA3512D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8B2A-0427-4E8C-84EB-3F83998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EB90C-66BC-4653-92C4-4BF97A7A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CB532-C474-48EC-8A99-6B87E31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6D723-B509-46B6-8136-12AB414E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FB515-6083-40E4-9225-A13AB7B7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44C99-89B1-43FA-ADDA-8ED7BAD2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6D7C4-B17C-4363-AC66-12A2F4EB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A60DE-E3F5-4ED6-A673-92225F9F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B6B0AA-C266-4B1E-9CB9-89B0F935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E3EF0-C0A9-4A9F-9036-39C13E7B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46B2B-CC1B-45B8-82CF-F23BF78F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471D-3874-44AB-A16D-C3EAB0D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13A3F-E8AE-4517-B991-BE8F3052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3C78D-E749-4B85-8BE3-BEE1EF6C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F2EF1-C632-4997-9FDD-41D9D7A7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F25E0-95C8-4A88-816F-12051BD2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A48E8-FFFE-49F9-9A51-E772C0ED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D2102-393A-4901-A563-7CC15FFE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04A762-367E-4186-A634-5A4C9974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F8DB0-BB26-4F5F-892A-6B2E5987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4BB10-20B7-4C98-8722-67054538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9A7819-906B-4097-9159-DBB187DE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9F8C-094C-4137-B864-813FD597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344118-79E2-4F4F-8627-548619EF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CFF42-8AB9-4774-9E6D-F424F02C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6B13C-A5DD-447F-A6D6-F20D8471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F194F8-6B5E-4D44-BCF6-5B2AF9D9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58298-CF33-4233-B29E-18B004F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ECF80-0923-411C-9F17-E5AA3FC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50453-DD2E-4D26-BD0E-DEF3C435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37C20-43D7-4674-985A-80AC6651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F2E68-0FA4-4223-910F-1813282C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F9DE7-5B03-4344-8760-CA328B27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42F8-87AB-481C-A95B-014567DA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B5BD3C-038D-46DB-BAC6-C227FC54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89974-A77B-4F98-A5B3-993BDB95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A98FA-464C-48D7-96F2-02982F8F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CFD5E-3AD6-44FB-92E4-D4747666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56626-C9FA-4A2C-96D4-D2F6044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B3371-32FF-4FD6-B458-1C849E3D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ACD0C-CD7F-4AB4-BE10-ADDF773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E6ED3C-15C2-4479-9077-6B36971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F29F9-1BDF-41C7-8238-C7AC6988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9AB18-BD21-4F67-A963-92A4A852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7D64-DD34-4773-8CD0-D2831D4A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4B3D3-8145-48FF-8800-5FF720AB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830AF0-E329-4716-ACEE-58E5E7E8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04AF5-5C32-4189-A4C8-5FD4C504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614458-867E-4DA2-BE9C-75A9AA0A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B156C1-4583-41F9-AA64-F402DF07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2F3B5C-B5A9-4B7D-8C32-6B74A6A1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C85E0-46D7-4E43-B1E4-91D4D0E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DE08CE-0FB9-4A32-A3FD-8C1ECD8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8A0B74-ABEB-4BAD-9304-42AADB0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483F0-D7A8-4F4B-83C4-90D971D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91E4-9116-47C5-AF25-2B86EB43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CEED5-857D-4559-B159-99A7AFE0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A108F-611E-443D-B448-9F599CCA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74BBBB-BD34-40A9-B868-8507FFB2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7E94-CAEE-4C93-A054-7C0511EE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8322-421D-4221-A102-0EE22B2A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32FE-A3A5-49E4-9940-B59064C5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DEC8-49A3-4D0F-9BA2-055CE86C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2EC-E2B0-4856-9E5A-B93339E2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959C-375F-4FC0-836F-015A41E2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1C6F-266D-4242-AF21-F4F0D945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4D14-F058-49CA-9B5E-BB291A7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1118-3466-491F-881A-88F31C07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D587-60A8-423D-8475-C05344F8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1AB4-A3E3-4AFC-9DCD-8BD57D5F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6A63-5F00-4EDB-97E0-489A9A3B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6EFB-8446-4433-AE18-B7BA63AA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BE98-F326-42DC-91CB-2B537DB8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170F0-22EE-44C5-A15D-E4FC01FA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021-43E5-44EB-B1D1-0CC6A762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D6D8-9E73-439E-9494-D2631184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E26F-C330-4ADD-9A0E-8D9BF2A2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EA16-4006-4AD5-8544-2E8C3F47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900B1-059D-4CAD-A6F4-47093327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A95C-E34D-4571-A481-CB1AABCC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FD75-CCEB-4891-A1B9-2480601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9607-6972-4DE5-8FFE-420A8623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CAE88-C1B0-4C66-9660-99573D1C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6BCE4-5E83-4DF1-A8D5-4594FEA5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DC661-7EA1-49E2-A442-06B762ED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6AF-0F75-46DB-AB33-6F21043B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5C01C-6AE3-4E46-A260-57F9CD0D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9C73-8863-4BEE-94DF-556CEFFE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124D-0B0C-4EF2-86F0-06F9C7D7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3A121-2AB8-4E32-9B2D-0A1C7264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8BC7C-671F-4343-BCD3-48273231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601F-9775-439F-99E7-D24FDA4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33FBF-24BB-4516-89ED-8FCA772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0F42-BBCF-4B48-A1C2-D779BEF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8B4F6-BD32-487D-8552-08B815F6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0701-F378-4A56-9842-98479987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CF7-BDD4-4819-8F0C-F1013F2A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528DE-94B7-489F-8887-A89FF836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250DC-73C3-40E6-B720-BB46FEB0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1E782-CD59-4A33-B8BF-6B5922CC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1E624-8743-44E8-A804-35D36EB3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268C-F7CE-4EDD-A36C-5FC73E87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621A5-0F2D-4126-891A-371F1A97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D3C7-8491-4F95-A665-A2F4167C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0EFCA-E1D2-47F2-B736-4DDB9FE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38A9B-C3D8-4DAD-9DD7-DFE78CC3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032D6-227E-44C4-9572-76C0B66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1AF-4FAA-4DA2-9CA8-D036FBC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A1FF9-A80E-4487-B728-A9193470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E9D90-D932-48D9-85D2-72BB7664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FF187-2982-4D92-BBF4-127FD2F9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E999B-D7D1-440A-BD6D-6A8A70A2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3363A-3DB7-4AC6-9568-A05E0E30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74A56-56B3-4A4A-B2BC-88FF51F4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F881E-BCDD-4F17-A7BA-4939FFA5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4CF1-B14E-4D4F-8516-490EC4ED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1417C-FD1D-4A62-B2AF-8307F7EE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630AE-AA74-4F78-9FE6-8BAB34BD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27A-31D7-4CE4-B668-1EBF2E6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69101-9E15-4CB8-9B99-B799F3DD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B53A5-035C-4971-BE74-FC1830F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35C8F-3308-46B7-AEBA-6BAC1BD1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9319-59F7-4143-9FBF-9CDF945C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E4A0F-4447-4535-B0C6-579107A1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98B2C-D8A6-437D-8C47-B52CEFCD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C760-8B32-483C-83CC-DA0A45B4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EDBA-8AFA-4873-94A8-E056AB22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82D8B-6605-4DE7-A6B2-959DA128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AF8BB-A11C-4C39-B5E8-87EAEE39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0E4-5759-4B3C-BED7-6691999C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03D9F-610D-4F08-9F6E-2F002BAA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BB6BE-271D-4125-B003-80E12383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2B575-6B40-4AC0-8636-40A763B9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30B3C-96AD-4B38-BC66-75E80F9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A7B15-4B84-4B93-BCE7-CE557AE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B9866-ECDF-4085-BF9D-69543815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A1A5A-2C8D-4581-8D27-05C9A606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84F9A-2290-4EC0-8133-D2A5C7E7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B2E65-ED16-4736-8EA0-E818160B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85E28-75FE-433F-AD28-80788C5C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CCEC-80D2-4D88-82C8-B913B4ECE0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A310-63A0-4F7D-A6DB-EE8C80D927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7CFF-9EB6-4D0C-A8F2-DA9089876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E16-5106-46FC-8BFD-9AFE79842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AC37-F619-45B1-A4BF-8BBD7A33A5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4338-2EE6-4BA7-B234-63F7AFA289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303-890A-44EE-8722-E6F5E41FC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74E2-8F2F-427F-8B76-BB7B6CBA7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76AD-6FFC-42C0-B7FC-994AD60EA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3E8D-4573-4B2C-83AF-0FEEAE0AA6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78D4-9789-4B82-A6A2-1E3231961B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B4F8-F12F-4047-8ABE-C13FB53E0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48B5-9B55-4179-A8C2-C0CEE5C2D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F53D-DAEE-41C0-B161-DE112BC41C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EB9-6D44-4D0E-85E3-7DE7A32A7F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CF15-5364-4623-8F9A-00D08F1E4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8303-0795-4C7E-9A9E-F2663BF8AC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2062-3C0E-4AA1-B679-23D335FEDC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9AEC-3C15-40F3-8D54-59462C56C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AC40-98F0-4B33-9F83-31636FE0BA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4C96-C0BD-4225-9D7A-8E44732E59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AC85-A680-4B8D-81BF-619DD90B99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8E5D-93F6-4401-BD49-A9C5A913FF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AC3B-12EA-4E25-9B2E-B8381AFDEC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8197-6A30-412B-BF1D-54FDE87457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0CBC-57D8-4B83-90D7-FE3E13A2DD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9351-B691-4EE8-978E-5731EAC80A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3C35-7BE8-4FA6-92DE-C3F8B17901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9178-4C11-40BB-8FAF-ADBEA467E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C32C-B1E0-45BA-9594-98044DD165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4074-14AE-437A-98FC-E01E1553A1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BE2A-192C-449B-B4D1-CACBAA830F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D69-C14D-48A3-8970-C12C4B247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0E03-8C06-4347-B884-3300A40C6B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56AF-B3FF-45AA-B521-581655B69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3000-089D-41BE-AA93-3069A94ACE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B860-7BBF-44F8-BB27-B47354BF90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6C35-DB16-470B-B30E-92E03A4AED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26D7-DBC7-4023-867A-B7FF061E2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6C56-6369-4F0E-B13F-810568943A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76360" y="2886120"/>
            <a:ext cx="6191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171360" y="965160"/>
            <a:ext cx="8801280" cy="5343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55640" y="5776920"/>
            <a:ext cx="518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04760" y="914400"/>
            <a:ext cx="8934480" cy="5029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979640" y="5445000"/>
            <a:ext cx="223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900000" y="1719360"/>
            <a:ext cx="7344000" cy="3419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4859280" y="243540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3708360" y="32130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4500720" y="39337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1979640" y="4653000"/>
            <a:ext cx="201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133200" y="747720"/>
            <a:ext cx="8877600" cy="57056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81200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781200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7740720" y="458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7812000" y="6021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142920" y="816120"/>
            <a:ext cx="88581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781200" y="1319040"/>
            <a:ext cx="7581600" cy="4219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692360" y="152892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4398840" y="152892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135920" y="15271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3276720" y="39481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6084720" y="3817800"/>
            <a:ext cx="6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152280" y="814320"/>
            <a:ext cx="8839440" cy="56390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5301" descr=""/>
          <p:cNvPicPr/>
          <p:nvPr/>
        </p:nvPicPr>
        <p:blipFill>
          <a:blip r:embed="rId2"/>
          <a:stretch/>
        </p:blipFill>
        <p:spPr>
          <a:xfrm>
            <a:off x="2568600" y="3294000"/>
            <a:ext cx="47530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4276" descr=""/>
          <p:cNvPicPr/>
          <p:nvPr/>
        </p:nvPicPr>
        <p:blipFill>
          <a:blip r:embed="rId1"/>
          <a:stretch/>
        </p:blipFill>
        <p:spPr>
          <a:xfrm>
            <a:off x="533520" y="679320"/>
            <a:ext cx="8076960" cy="6134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2879640" cy="15840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2786040" y="2190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5364000" y="2967120"/>
            <a:ext cx="2880000" cy="1584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458040" y="2160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1590840" y="5202360"/>
            <a:ext cx="2879640" cy="1584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2987640" y="472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5321160" y="5216400"/>
            <a:ext cx="2880000" cy="1584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6718320" y="4724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723960" y="1843200"/>
            <a:ext cx="7696080" cy="317160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52232" descr=""/>
          <p:cNvPicPr/>
          <p:nvPr/>
        </p:nvPicPr>
        <p:blipFill>
          <a:blip r:embed="rId2"/>
          <a:stretch/>
        </p:blipFill>
        <p:spPr>
          <a:xfrm>
            <a:off x="1533600" y="2478240"/>
            <a:ext cx="2457360" cy="254304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52233" descr=""/>
          <p:cNvPicPr/>
          <p:nvPr/>
        </p:nvPicPr>
        <p:blipFill>
          <a:blip r:embed="rId3"/>
          <a:stretch/>
        </p:blipFill>
        <p:spPr>
          <a:xfrm>
            <a:off x="4529160" y="2838600"/>
            <a:ext cx="3753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12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